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7335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7335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37335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10666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10666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7335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37335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37335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37335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720" y="37335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37335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040" y="37335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37335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720" y="37335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4640" y="10666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5600" y="10666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040" y="37335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4640" y="37335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5600" y="37335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7335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37335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10666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7335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250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Aft>
                <a:spcPts val="1250"/>
              </a:spcAft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Aft>
                <a:spcPts val="1250"/>
              </a:spcAft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Aft>
                <a:spcPts val="1250"/>
              </a:spcAft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Aft>
                <a:spcPts val="125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Aft>
                <a:spcPts val="125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91160" y="6400800"/>
            <a:ext cx="14475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1C48-A907-4CCC-A8E3-B7BCD320CCBB}" type="datetime5">
              <a:rPr b="0" lang="en-US" sz="1100" spc="-1" strike="noStrike">
                <a:solidFill>
                  <a:srgbClr val="000000"/>
                </a:solidFill>
                <a:latin typeface="Tahoma"/>
              </a:rPr>
              <a:t>Jul 31,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18960" y="640080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838080"/>
            <a:ext cx="7543800" cy="108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400800"/>
            <a:ext cx="19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9320" y="6292800"/>
            <a:ext cx="7543800" cy="108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304920"/>
            <a:ext cx="108000" cy="4343400"/>
          </a:xfrm>
          <a:custGeom>
            <a:avLst/>
            <a:gdLst>
              <a:gd name="textAreaLeft" fmla="*/ 15840 w 108000"/>
              <a:gd name="textAreaRight" fmla="*/ 92160 w 108000"/>
              <a:gd name="textAreaTop" fmla="*/ 15840 h 4343400"/>
              <a:gd name="textAreaBottom" fmla="*/ 4327560 h 4343400"/>
            </a:gdLst>
            <a:ahLst/>
            <a:rect l="textAreaLeft" t="textAreaTop" r="textAreaRight" b="textAreaBottom"/>
            <a:pathLst>
              <a:path w="21600" h="865866">
                <a:moveTo>
                  <a:pt x="10800" y="0"/>
                </a:moveTo>
                <a:arcTo wR="10800" hR="10800" stAng="16200000" swAng="-5400000"/>
                <a:lnTo>
                  <a:pt x="0" y="855066"/>
                </a:lnTo>
                <a:arcTo wR="10800" hR="10800" stAng="10800000" swAng="-5400000"/>
                <a:lnTo>
                  <a:pt x="10800" y="8658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339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2209320"/>
            <a:ext cx="7010280" cy="1600200"/>
          </a:xfrm>
          <a:prstGeom prst="rect">
            <a:avLst/>
          </a:prstGeom>
          <a:solidFill>
            <a:srgbClr val="3366cc"/>
          </a:solidFill>
          <a:ln w="0">
            <a:noFill/>
          </a:ln>
          <a:effectLst>
            <a:outerShdw dist="53966" dir="2700000" blurRad="0" rotWithShape="0">
              <a:srgbClr val="003399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019560" y="6356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B100-BF2D-4233-BA59-9E929D564FA7}" type="datetime5">
              <a:rPr b="0" lang="en-US" sz="1400" spc="-1" strike="noStrike">
                <a:solidFill>
                  <a:srgbClr val="ffffff"/>
                </a:solidFill>
                <a:latin typeface="Tahoma"/>
              </a:rPr>
              <a:t>Jul 31, 2026</a:t>
            </a:fld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mpinas, julho d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990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838080"/>
            <a:ext cx="8153640" cy="108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04920"/>
            <a:ext cx="108000" cy="5867280"/>
          </a:xfrm>
          <a:custGeom>
            <a:avLst/>
            <a:gdLst>
              <a:gd name="textAreaLeft" fmla="*/ 15840 w 108000"/>
              <a:gd name="textAreaRight" fmla="*/ 92160 w 108000"/>
              <a:gd name="textAreaTop" fmla="*/ 15840 h 5867280"/>
              <a:gd name="textAreaBottom" fmla="*/ 5851440 h 5867280"/>
            </a:gdLst>
            <a:ahLst/>
            <a:rect l="textAreaLeft" t="textAreaTop" r="textAreaRight" b="textAreaBottom"/>
            <a:pathLst>
              <a:path w="21600" h="1169629">
                <a:moveTo>
                  <a:pt x="10800" y="0"/>
                </a:moveTo>
                <a:arcTo wR="10800" hR="10800" stAng="16200000" swAng="-5400000"/>
                <a:lnTo>
                  <a:pt x="0" y="1158829"/>
                </a:lnTo>
                <a:arcTo wR="10800" hR="10800" stAng="10800000" swAng="-5400000"/>
                <a:lnTo>
                  <a:pt x="10800" y="116962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3399"/>
          </a:solidFill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Aft>
                <a:spcPts val="1125"/>
              </a:spcAft>
              <a:buClr>
                <a:srgbClr val="3366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Aft>
                <a:spcPts val="1001"/>
              </a:spcAft>
              <a:buClr>
                <a:srgbClr val="3366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Aft>
                <a:spcPts val="1001"/>
              </a:spcAft>
              <a:buClr>
                <a:srgbClr val="3366cc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76440" y="1162080"/>
            <a:ext cx="8067600" cy="5253120"/>
          </a:xfrm>
          <a:custGeom>
            <a:avLst/>
            <a:gdLst/>
            <a:ahLst/>
            <a:rect l="l" t="t" r="r" b="b"/>
            <a:pathLst>
              <a:path w="5082" h="3309">
                <a:moveTo>
                  <a:pt x="228" y="1086"/>
                </a:moveTo>
                <a:cubicBezTo>
                  <a:pt x="456" y="468"/>
                  <a:pt x="1682" y="168"/>
                  <a:pt x="2383" y="84"/>
                </a:cubicBezTo>
                <a:cubicBezTo>
                  <a:pt x="3084" y="0"/>
                  <a:pt x="4662" y="336"/>
                  <a:pt x="4872" y="1134"/>
                </a:cubicBezTo>
                <a:cubicBezTo>
                  <a:pt x="5082" y="1932"/>
                  <a:pt x="3705" y="1638"/>
                  <a:pt x="3414" y="1938"/>
                </a:cubicBezTo>
                <a:cubicBezTo>
                  <a:pt x="3117" y="2261"/>
                  <a:pt x="3354" y="2844"/>
                  <a:pt x="3090" y="3072"/>
                </a:cubicBezTo>
                <a:cubicBezTo>
                  <a:pt x="2826" y="3300"/>
                  <a:pt x="2027" y="3309"/>
                  <a:pt x="1509" y="2916"/>
                </a:cubicBezTo>
                <a:cubicBezTo>
                  <a:pt x="991" y="2523"/>
                  <a:pt x="0" y="1704"/>
                  <a:pt x="228" y="1086"/>
                </a:cubicBezTo>
                <a:close/>
              </a:path>
            </a:pathLst>
          </a:custGeom>
          <a:solidFill>
            <a:srgbClr val="aec1e6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315200" cy="259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99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chmarking Speech Synchronized Facial Animation Based 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xt-Dependent Vise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4572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osé Mario De Marti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rtino@dca.fee.unicamp.b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ept. of Computer Eng. and Industrial Automation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ábio Viola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bio@decom.fee.unicamp.b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epartment of Communic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of Electrical and Computer Engineer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University of Campina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logo" descr=""/>
          <p:cNvPicPr/>
          <p:nvPr/>
        </p:nvPicPr>
        <p:blipFill>
          <a:blip r:embed="rId1"/>
          <a:stretch/>
        </p:blipFill>
        <p:spPr>
          <a:xfrm>
            <a:off x="7543800" y="5410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79DF2C-8FC9-4358-AA31-7119472CF5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metodology2" descr=""/>
          <p:cNvPicPr/>
          <p:nvPr/>
        </p:nvPicPr>
        <p:blipFill>
          <a:blip r:embed="rId1"/>
          <a:stretch/>
        </p:blipFill>
        <p:spPr>
          <a:xfrm>
            <a:off x="1521000" y="1176480"/>
            <a:ext cx="6419520" cy="5037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eme Characterization and Represent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971800"/>
            <a:ext cx="2133720" cy="1600200"/>
          </a:xfrm>
          <a:prstGeom prst="ellipse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32D66-AC84-460B-9639-B5669AAEBE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068480"/>
            <a:ext cx="6734160" cy="5184720"/>
            <a:chOff x="1219320" y="1068480"/>
            <a:chExt cx="6734160" cy="5184720"/>
          </a:xfrm>
        </p:grpSpPr>
        <p:pic>
          <p:nvPicPr>
            <p:cNvPr id="120" name="papaP1" descr=""/>
            <p:cNvPicPr/>
            <p:nvPr/>
          </p:nvPicPr>
          <p:blipFill>
            <a:blip r:embed="rId1"/>
            <a:stretch/>
          </p:blipFill>
          <p:spPr>
            <a:xfrm>
              <a:off x="1219320" y="1068480"/>
              <a:ext cx="3458880" cy="25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apaP2" descr=""/>
            <p:cNvPicPr/>
            <p:nvPr/>
          </p:nvPicPr>
          <p:blipFill>
            <a:blip r:embed="rId2"/>
            <a:stretch/>
          </p:blipFill>
          <p:spPr>
            <a:xfrm>
              <a:off x="4494240" y="1068480"/>
              <a:ext cx="3459240" cy="25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apaP3" descr=""/>
            <p:cNvPicPr/>
            <p:nvPr/>
          </p:nvPicPr>
          <p:blipFill>
            <a:blip r:embed="rId3"/>
            <a:stretch/>
          </p:blipFill>
          <p:spPr>
            <a:xfrm>
              <a:off x="1219320" y="3659040"/>
              <a:ext cx="3458880" cy="25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apaP4" descr=""/>
            <p:cNvPicPr/>
            <p:nvPr/>
          </p:nvPicPr>
          <p:blipFill>
            <a:blip r:embed="rId4"/>
            <a:stretch/>
          </p:blipFill>
          <p:spPr>
            <a:xfrm>
              <a:off x="4494240" y="3659040"/>
              <a:ext cx="3459240" cy="259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ticulatory Target Identification ([</a:t>
            </a:r>
            <a:r>
              <a:rPr b="1" lang="en-US" sz="22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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17680" y="1784520"/>
            <a:ext cx="533520" cy="60948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895480" y="3048120"/>
            <a:ext cx="177840" cy="4903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33600" y="1638360"/>
            <a:ext cx="254160" cy="59688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657240" y="2286000"/>
            <a:ext cx="228600" cy="60948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5A802-E3DE-41B7-88E4-9D47ECF615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metodology2" descr=""/>
          <p:cNvPicPr/>
          <p:nvPr/>
        </p:nvPicPr>
        <p:blipFill>
          <a:blip r:embed="rId1"/>
          <a:stretch/>
        </p:blipFill>
        <p:spPr>
          <a:xfrm>
            <a:off x="1521000" y="1211400"/>
            <a:ext cx="6419520" cy="5037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eme Characterization and Represent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038480"/>
            <a:ext cx="2133720" cy="1600200"/>
          </a:xfrm>
          <a:prstGeom prst="ellipse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AC483-5525-4093-90AD-EE8AD76CCE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ticulatory Target Clustering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means Clustering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ing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Aft>
                <a:spcPts val="1125"/>
              </a:spcAft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points: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Aft>
                <a:spcPts val="1125"/>
              </a:spcAft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coordinates (x, y, z) each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Aft>
                <a:spcPts val="11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 partition quality criter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st Davies-Bouldin index less than 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amples of vise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</a:t>
            </a:r>
            <a:r>
              <a:rPr b="0" lang="pt-BR" sz="18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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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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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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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</a:t>
            </a:r>
            <a:r>
              <a:rPr b="0" lang="pt-BR" sz="18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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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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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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 [</a:t>
            </a:r>
            <a:r>
              <a:rPr b="0" lang="pt-BR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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E3D87-4D40-4B75-8438-6614BCA9CA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metodology2" descr=""/>
          <p:cNvPicPr/>
          <p:nvPr/>
        </p:nvPicPr>
        <p:blipFill>
          <a:blip r:embed="rId1"/>
          <a:stretch/>
        </p:blipFill>
        <p:spPr>
          <a:xfrm>
            <a:off x="1521000" y="1211400"/>
            <a:ext cx="6419520" cy="5037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eme Characterization and Represent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038480"/>
            <a:ext cx="2133720" cy="1600200"/>
          </a:xfrm>
          <a:prstGeom prst="ellipse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5095B-8C1C-4BE8-A1BF-E6584B0164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apaP3" descr=""/>
          <p:cNvPicPr/>
          <p:nvPr/>
        </p:nvPicPr>
        <p:blipFill>
          <a:blip r:embed="rId1"/>
          <a:stretch/>
        </p:blipFill>
        <p:spPr>
          <a:xfrm>
            <a:off x="1147680" y="1065240"/>
            <a:ext cx="6927840" cy="5195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alization Time ([</a:t>
            </a:r>
            <a:r>
              <a:rPr b="1" lang="en-US" sz="22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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] 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314960" y="1523880"/>
            <a:ext cx="990360" cy="800280"/>
            <a:chOff x="4314960" y="1523880"/>
            <a:chExt cx="990360" cy="800280"/>
          </a:xfrm>
        </p:grpSpPr>
        <p:sp>
          <p:nvSpPr>
            <p:cNvPr id="143" name=""/>
            <p:cNvSpPr/>
            <p:nvPr/>
          </p:nvSpPr>
          <p:spPr>
            <a:xfrm>
              <a:off x="4314960" y="1790640"/>
              <a:ext cx="419040" cy="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00760" y="1714680"/>
              <a:ext cx="0" cy="60948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000760" y="1790640"/>
              <a:ext cx="304560" cy="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4000" y="1523880"/>
              <a:ext cx="0" cy="79056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728960" y="1490760"/>
            <a:ext cx="719280" cy="790560"/>
            <a:chOff x="4728960" y="1490760"/>
            <a:chExt cx="719280" cy="790560"/>
          </a:xfrm>
        </p:grpSpPr>
        <p:sp>
          <p:nvSpPr>
            <p:cNvPr id="148" name=""/>
            <p:cNvSpPr/>
            <p:nvPr/>
          </p:nvSpPr>
          <p:spPr>
            <a:xfrm flipH="1">
              <a:off x="4728960" y="1557360"/>
              <a:ext cx="718920" cy="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8240" y="1490760"/>
              <a:ext cx="0" cy="79056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B3D7C-DFB9-4487-9201-6D440F2624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metodology2" descr=""/>
          <p:cNvPicPr/>
          <p:nvPr/>
        </p:nvPicPr>
        <p:blipFill>
          <a:blip r:embed="rId1"/>
          <a:stretch/>
        </p:blipFill>
        <p:spPr>
          <a:xfrm>
            <a:off x="1521000" y="1211400"/>
            <a:ext cx="6419520" cy="50371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eme Characterization and Represent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4952880"/>
            <a:ext cx="2057400" cy="1371600"/>
          </a:xfrm>
          <a:prstGeom prst="ellipse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725B0-C522-45C9-9D8C-E9A769B8E0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eme Parametric Representation [</a:t>
            </a:r>
            <a:r>
              <a:rPr b="1" lang="en-US" sz="22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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visemerepresentationpapa" descr=""/>
          <p:cNvPicPr/>
          <p:nvPr/>
        </p:nvPicPr>
        <p:blipFill>
          <a:blip r:embed="rId1"/>
          <a:stretch/>
        </p:blipFill>
        <p:spPr>
          <a:xfrm>
            <a:off x="1147680" y="1065240"/>
            <a:ext cx="6927840" cy="51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E8824-1F33-4743-B478-87E0D62177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mporomandibular Joint Behavi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oromandibular Joint (TMJ) movements during speech produ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E5477-CE87-4A4D-9136-1F6C42271C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mporomandibular Joint Behavi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tmjbehavior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61440" cy="519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AFC12-36FF-4565-AF6D-210D662E04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ur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03A7C-A3DE-4175-943F-26489AB1F7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mporomandibular Joint Behavior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 x Model: TMJ Rotation [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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atmrotationmeasur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4246560" cy="3539880"/>
          </a:xfrm>
          <a:prstGeom prst="rect">
            <a:avLst/>
          </a:prstGeom>
          <a:ln w="0">
            <a:noFill/>
          </a:ln>
        </p:spPr>
      </p:pic>
      <p:pic>
        <p:nvPicPr>
          <p:cNvPr id="165" name="atmrotationmodel" descr=""/>
          <p:cNvPicPr/>
          <p:nvPr/>
        </p:nvPicPr>
        <p:blipFill>
          <a:blip r:embed="rId2"/>
          <a:stretch/>
        </p:blipFill>
        <p:spPr>
          <a:xfrm>
            <a:off x="4795920" y="1676520"/>
            <a:ext cx="4246560" cy="35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53C94-950F-46AA-B44C-57B36B27AB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mporomandibular Joint Behavi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 x Model: TJM Translation [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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atmtranslationmeasur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4246560" cy="3539880"/>
          </a:xfrm>
          <a:prstGeom prst="rect">
            <a:avLst/>
          </a:prstGeom>
          <a:ln w="0">
            <a:noFill/>
          </a:ln>
        </p:spPr>
      </p:pic>
      <p:pic>
        <p:nvPicPr>
          <p:cNvPr id="169" name="atmtranslationmodel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246560" cy="35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C1223-0338-402F-B559-D253A83718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lementation Detail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MJ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tmjverticesfront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951360" cy="2519280"/>
          </a:xfrm>
          <a:prstGeom prst="rect">
            <a:avLst/>
          </a:prstGeom>
          <a:ln w="0">
            <a:noFill/>
          </a:ln>
        </p:spPr>
      </p:pic>
      <p:pic>
        <p:nvPicPr>
          <p:cNvPr id="173" name="tmjverticesprofile" descr=""/>
          <p:cNvPicPr/>
          <p:nvPr/>
        </p:nvPicPr>
        <p:blipFill>
          <a:blip r:embed="rId2"/>
          <a:stretch/>
        </p:blipFill>
        <p:spPr>
          <a:xfrm>
            <a:off x="4876920" y="1900080"/>
            <a:ext cx="3951000" cy="25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FF55D-FEEB-414F-977F-A04970A5FD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ower Lip Behavi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tmjlowerlip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04280" cy="51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00206-8E1F-4DA9-85E5-ECB22EBC7E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Upper Lip Behavi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jectory of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683A5-4BE1-4694-BE49-58A95AC568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lementation Detail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er Lip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per Lip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71600" y="1523880"/>
            <a:ext cx="5792760" cy="1801800"/>
            <a:chOff x="1371600" y="1523880"/>
            <a:chExt cx="5792760" cy="1801800"/>
          </a:xfrm>
        </p:grpSpPr>
        <p:pic>
          <p:nvPicPr>
            <p:cNvPr id="182" name="lowregionfront" descr=""/>
            <p:cNvPicPr/>
            <p:nvPr/>
          </p:nvPicPr>
          <p:blipFill>
            <a:blip r:embed="rId1"/>
            <a:stretch/>
          </p:blipFill>
          <p:spPr>
            <a:xfrm>
              <a:off x="1371600" y="1523880"/>
              <a:ext cx="2825640" cy="18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lowregionprofile" descr=""/>
            <p:cNvPicPr/>
            <p:nvPr/>
          </p:nvPicPr>
          <p:blipFill>
            <a:blip r:embed="rId2"/>
            <a:stretch/>
          </p:blipFill>
          <p:spPr>
            <a:xfrm>
              <a:off x="4343400" y="1523880"/>
              <a:ext cx="2820960" cy="179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1370160" y="4068720"/>
            <a:ext cx="5794200" cy="1798560"/>
            <a:chOff x="1370160" y="4068720"/>
            <a:chExt cx="5794200" cy="1798560"/>
          </a:xfrm>
        </p:grpSpPr>
        <p:pic>
          <p:nvPicPr>
            <p:cNvPr id="185" name="upperregionfront" descr=""/>
            <p:cNvPicPr/>
            <p:nvPr/>
          </p:nvPicPr>
          <p:blipFill>
            <a:blip r:embed="rId3"/>
            <a:stretch/>
          </p:blipFill>
          <p:spPr>
            <a:xfrm>
              <a:off x="1370160" y="4068720"/>
              <a:ext cx="282096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upperregionprofile" descr=""/>
            <p:cNvPicPr/>
            <p:nvPr/>
          </p:nvPicPr>
          <p:blipFill>
            <a:blip r:embed="rId4"/>
            <a:stretch/>
          </p:blipFill>
          <p:spPr>
            <a:xfrm>
              <a:off x="4343400" y="4068720"/>
              <a:ext cx="282096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01DB5-486C-4EC0-8E67-D493FD6F90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monstration Video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43000" y="1114560"/>
            <a:ext cx="6858000" cy="46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033B1-44EB-4E38-BF77-198E30AE5B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c1e6"/>
                </a:solidFill>
                <a:latin typeface="Tahoma"/>
              </a:rPr>
              <a:t>Context-Dependent Vis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c1e6"/>
                </a:solidFill>
                <a:latin typeface="Tahoma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E8F6E-9F16-46A5-B29B-7D65B86653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peech Intelligibility Tes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ech intelligibility test under different noise contamination of the audi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hicle phrase: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Eu falo &lt;logatome&gt;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 say &lt;logatome&gt;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atomes  ‘CVCV</a:t>
            </a:r>
            <a:r>
              <a:rPr b="0" lang="en-US" sz="1800" spc="-1" strike="noStrike" baseline="-20000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9 x 3) = 27 cas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= { /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/ }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/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/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68516-46C0-46B2-BE05-81E58D3207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peech Intelligibility Tes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ve noise contamination (SN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dB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6 dB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12 d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18 dB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4 dB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654280" y="233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6542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654280" y="3168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14400" y="4038480"/>
            <a:ext cx="754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material (27 x 5 x 3 = 405 fi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dio on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dio plus video (real speak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dio plus animation (virtual speak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47EE5-69E3-4F7E-95AE-864C490FD8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ur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eme characterization and re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125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ial animation modeling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and 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plementation detai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c1e6"/>
                </a:solidFill>
                <a:latin typeface="Tahoma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c1e6"/>
                </a:solidFill>
                <a:latin typeface="Tahoma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978EF-1731-483D-87B5-04B760A586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result" descr=""/>
          <p:cNvPicPr/>
          <p:nvPr/>
        </p:nvPicPr>
        <p:blipFill>
          <a:blip r:embed="rId1"/>
          <a:stretch/>
        </p:blipFill>
        <p:spPr>
          <a:xfrm>
            <a:off x="1147680" y="1065240"/>
            <a:ext cx="6927840" cy="51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8F3B0-E498-4814-8026-E69B3B1D49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c1e6"/>
                </a:solidFill>
                <a:latin typeface="Tahom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c1e6"/>
                </a:solidFill>
                <a:latin typeface="Tahoma"/>
              </a:rPr>
              <a:t>Our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c1e6"/>
                </a:solidFill>
                <a:latin typeface="Tahoma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8202B-D883-4A4E-BF2F-1C14115981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cial animation improves speech intelligibility particularly in high noise situations (SNR below –18dB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room for improvements as the solution is not as effective as the real vid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est protocol and the results establish an objective basis to compare different approaches and future improvements of our approa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89A49-7630-4025-B9FB-54818BC42B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tino@dca.fee.unicamp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dca.fee.unicamp.br/~marti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A3BAA-72CA-44A8-81F1-B9E89074EC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C0E76-2781-418F-ACF2-93DA8AD536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ic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n be represented as a sequence of discrete sound or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  <a:ea typeface="Times New Roman"/>
              </a:rPr>
              <a:t>seg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speech segment can be characterized by a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  <a:ea typeface="Times New Roman"/>
              </a:rPr>
              <a:t>articulatory tar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Homophen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peech segments that can not be distinguished by visual cues alon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  <a:ea typeface="Times New Roman"/>
              </a:rPr>
              <a:t>Visem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visual phoneme) is the recognizable visual motor pattern common to a group of homophenous seg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  <a:ea typeface="Times New Roman"/>
              </a:rPr>
              <a:t>Coarticul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altering of the articulatory movement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made in production of a segment by those made in production of an adjacent or nearby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93551-2A63-4114-8021-4D36DA3CFD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metodology2" descr=""/>
          <p:cNvPicPr/>
          <p:nvPr/>
        </p:nvPicPr>
        <p:blipFill>
          <a:blip r:embed="rId1"/>
          <a:stretch/>
        </p:blipFill>
        <p:spPr>
          <a:xfrm>
            <a:off x="1521000" y="1211400"/>
            <a:ext cx="6419520" cy="5037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eme Characterization and Represent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1143000"/>
            <a:ext cx="2133720" cy="838080"/>
          </a:xfrm>
          <a:prstGeom prst="ellipse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68697-1320-465D-BB43-075226DE57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aracterization of a set of visemes based on the analysis of a acoustic and visual corpus composed of non-sense words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gatomes) of the type ‘CVCV (C consonant, V vowe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atomes ‘CV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ahoma"/>
              </a:rPr>
              <a:t>2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9 x 3 x 3 = 81 cas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3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= { /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(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/ }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/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/ }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[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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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]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3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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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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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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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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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18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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3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atomes ‘V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ahoma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7 x 3 = 21 cas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3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{ /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}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{ [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]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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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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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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0" lang="en-US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</a:t>
            </a:r>
            <a:r>
              <a:rPr b="0" lang="pt-BR" sz="2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7DEB8-7ABA-4F59-9E32-62BFD848D7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metodology2" descr=""/>
          <p:cNvPicPr/>
          <p:nvPr/>
        </p:nvPicPr>
        <p:blipFill>
          <a:blip r:embed="rId1"/>
          <a:stretch/>
        </p:blipFill>
        <p:spPr>
          <a:xfrm>
            <a:off x="1521000" y="1211400"/>
            <a:ext cx="6419520" cy="5037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eme Characterization and Represent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1676520"/>
            <a:ext cx="2286000" cy="1447560"/>
          </a:xfrm>
          <a:prstGeom prst="ellipse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E0626-C5AE-4E65-8F22-61BDEA3CCB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ptured Inform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 of the trajectories of facial 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390840" cy="25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9C2BA-6B48-49F6-9C28-C89A2F622B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metodology2" descr=""/>
          <p:cNvPicPr/>
          <p:nvPr/>
        </p:nvPicPr>
        <p:blipFill>
          <a:blip r:embed="rId1"/>
          <a:stretch/>
        </p:blipFill>
        <p:spPr>
          <a:xfrm>
            <a:off x="1521000" y="1211400"/>
            <a:ext cx="6419520" cy="5037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eme Characterization and Represent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286000"/>
            <a:ext cx="2133720" cy="1600200"/>
          </a:xfrm>
          <a:prstGeom prst="ellipse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2286000"/>
            <a:ext cx="2133720" cy="1600200"/>
          </a:xfrm>
          <a:prstGeom prst="ellipse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chmarking Speech Synchonized Facial Animation Based on Context-Dependent Vise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36EF7-FF59-47E4-8AB3-8C668407DA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8:36:44Z</dcterms:created>
  <dc:creator>martino</dc:creator>
  <dc:description/>
  <dc:language>en-US</dc:language>
  <cp:lastModifiedBy>martino</cp:lastModifiedBy>
  <dcterms:modified xsi:type="dcterms:W3CDTF">2007-01-25T13:07:18Z</dcterms:modified>
  <cp:revision>347</cp:revision>
  <dc:subject>WSCG07 - G97</dc:subject>
  <dc:title>Speech Synchronized Facial Animation Base on Context-Dependent Visemes</dc:title>
</cp:coreProperties>
</file>